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630-668A-41C1-BCD6-DF659F6A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533-4C9D-43AB-851B-805FD04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9C6-BFCC-49E2-8993-314CBA03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131-06B8-4388-859E-1369FC4B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E84-83B5-476F-AC57-3031F2DF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9E0-9E78-4946-8912-8F649CC1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067-A7AB-4566-9606-CE4D3868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4A-75AE-4C47-8E27-05181943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27F-982B-4922-A4E6-F7BE883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56C-1FD4-45ED-94CE-0161B18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1B9-6C69-426E-B769-D29612FB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33E-6271-4B57-8BB4-DADB5AD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31C-410F-4350-AD55-C38F84DF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fornian FB"/>
              </a:rPr>
              <a:t>Craf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Verme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6120" y="1600200"/>
            <a:ext cx="805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Shah Jahan Cup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Mughal Empire, 17th Centu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3397320" cy="2436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429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Unicorn in Captivity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from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Hunt of the Unicorn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Medieval, c.15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89280" y="1600200"/>
            <a:ext cx="356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Other Sc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232884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34765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Lid of the Limburg Staurotheca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Byzantine, 968-8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288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Chicago, </a:t>
            </a: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The Dinner Party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, Feminist Art, 197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019240" y="1676520"/>
            <a:ext cx="4838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lace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849320"/>
            <a:ext cx="4038480" cy="4027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1557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fornian FB"/>
              </a:rPr>
              <a:t>Critical Thinking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Working with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95560" y="2505240"/>
            <a:ext cx="2562120" cy="27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33920" y="2505240"/>
            <a:ext cx="2266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Cer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38240" y="1957320"/>
            <a:ext cx="287640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4120" y="2367000"/>
            <a:ext cx="2795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Meta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60520" y="1778040"/>
            <a:ext cx="2030400" cy="417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05520" y="2071800"/>
            <a:ext cx="269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Islamic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957320"/>
            <a:ext cx="609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United States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781360"/>
            <a:ext cx="284652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38680" y="273060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Dinner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893960"/>
            <a:ext cx="4038480" cy="3936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076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We are creating our own dinner par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Create a place setting for someone else in class that reflects their interests, personality, and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Porce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68360" y="275436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75200" y="2881440"/>
            <a:ext cx="1584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Gl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680" y="258588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5960" y="2725560"/>
            <a:ext cx="2743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Fo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3949560" cy="309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2235240"/>
            <a:ext cx="2031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Intar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590920" cy="4686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2246400"/>
            <a:ext cx="37335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fornian FB"/>
              </a:rPr>
              <a:t>Tape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275616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37843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loisonn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1995480"/>
            <a:ext cx="342900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89480" y="1881360"/>
            <a:ext cx="2755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Rep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214720"/>
            <a:ext cx="2971800" cy="228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15000" y="2057400"/>
            <a:ext cx="3705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1:53:11Z</dcterms:created>
  <dc:creator>Sheila Levi-Aland</dc:creator>
  <dc:description/>
  <dc:language>en-US</dc:language>
  <cp:lastModifiedBy>Sheila</cp:lastModifiedBy>
  <dcterms:modified xsi:type="dcterms:W3CDTF">2005-05-25T19:47:35Z</dcterms:modified>
  <cp:revision>13</cp:revision>
  <dc:subject/>
  <dc:title>Crafts</dc:title>
</cp:coreProperties>
</file>